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1D3-CF45-4B18-8F2E-991A37B4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7526-CEBC-4636-B251-20E07034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37BB7-EE9F-4889-9899-59033274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B21DE-629C-41D2-B19C-2614BCFB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E7249-2855-4DBB-AA8B-352D0D50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945BF-45B0-457D-B8A3-ECB8CF1D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70C31-C5EC-412D-B505-918EC724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7A122-0F86-41CB-B3C0-AEEB0258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59E82-D3C4-453F-925B-0D3AE411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0F033-34C6-4217-8968-C0BD1571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CE2B0-72C3-4BE7-B3A9-15BF6EAC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2BBA5-94A6-49C1-8342-C2C8A3AA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C87-AA52-4C70-B7AE-255E15E3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5AECF-6BF2-4B9B-81CD-EC33B5F4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9118C-B177-4D45-B928-C28C920E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C0C75-A206-435C-BEA7-2325FAFA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57A15-5A1A-4E12-B63F-781E4DAB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70339-AFFB-4955-B691-8A68FE82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5DFA0-73C3-4C21-BDFD-AC58C20F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A991B-CE2F-40C1-A23B-036C8E03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75361-24F3-471F-A273-CA01EF01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2152C-49C2-441F-81B2-B73A23E5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17B1D-275B-4198-9EEB-0AAD7C9E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48E-FEE8-47ED-8A9D-04A9AD07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F4C25-D218-4EE3-B0B0-F90D5777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EE134-9B44-49A9-936A-DFD9859E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46113-01E9-4515-B595-6D78C003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DB135-2A4F-4F85-B21C-19009876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B5A08-8F61-4C01-8CA1-15B94696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52E11-0E03-4793-847F-F966B31C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AC692-BB71-48AD-8115-3E9242A5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13C9B-C59B-4BA6-9553-48C3B78D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9B2A1-C7F8-483D-8571-88122B5A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9DF71-30CD-48A2-86B3-E5DD0679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8F8D-658C-43B0-9317-1E6942AB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DE08B-3DAB-4CC6-B270-0E96055B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C1131-58E7-4625-84A2-FD6B8271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25B9F-7FDD-467F-B055-7462C9E3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CB0E4-C566-4252-9E73-DBA08D05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7AEBE-DF66-41C4-A199-907305AF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D3B70-6EC9-4679-96EE-D3B63A9A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B33B6-E6CE-4AB1-AA4A-0DAC6E95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41D46-F2D3-4948-BC7C-B141A65F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F1911-5886-49B7-9CCB-4B7C1D83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1277E-F74B-4371-8B43-0554D1B6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6E0E-BBBC-46CD-A377-82FD973C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18073-F308-412D-B03E-65896C25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F27D0-BDD2-44BC-81BF-CB71CC24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0C304-13C5-4F97-A06A-EEC21112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2C286-20AC-48E8-AE5A-5C05F5E0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3CC58-3D0A-40C2-BE41-B86DCC40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37FE16-0AE7-4CD5-9ADB-58D5D3A5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621BB7-648A-41B5-887F-7B36AF2E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6D0B8-0056-4C1D-B22E-BC0E3282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A37F7F-746F-4783-9B18-66D69217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F47A0-FF30-49A4-A398-0C2ABE79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E550-F3C3-4C65-81AD-0B6B7969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272BE-43C7-414B-8A78-51FF873E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4843B-F885-42CB-AF4B-877E2AC0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0D1F0-6A37-491B-9B04-D258BBF8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09ACA-80C5-48D8-833B-FCC8D654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91D9F-0EE8-447F-B38B-1D905BAA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42E5C-0D90-4EFC-910D-3D878878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D37FC-DE8A-43B5-9FED-C04ECF43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ABBEC1-31EC-44F2-AFEC-7A1821E6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436F4C-F91F-4614-83F2-30AC4478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C42F6D-5281-41DB-93EF-1FBDE10D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405C-C888-4D8A-B903-67098D9A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55FF4A-F202-48D2-B01B-B77AB37D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94C8BB-ADD3-4FBC-AD2B-485647F0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67041C-5498-404C-A160-8FE0E435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D249A5-4318-400A-B475-01D1DACF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393AE8-3CE4-4FD8-86CD-459F34FC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A0ED9-D7B4-4E93-94BF-DF3EBFA9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24CEE5-D5EB-4B02-B4C4-7FF83957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07EBA2-85FE-4A60-9555-D82E0EE2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AA90D5-328D-4889-B640-0ABB9CD3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3F8D31-C210-4447-9610-B0DECC84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9930-46D6-41CA-AC8C-CEE03FA6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6F81C-776F-4E96-B119-3CE548FE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9E007D-30FF-438D-8033-CCCDDA1C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F475CC-387A-44AC-9B72-3A7013FB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AFD21-9C15-4731-9AE3-9E861BDF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920482-0A38-42DA-BCF3-5DA5A2B3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9B13F1-6712-4C03-B454-97042F36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C706E6-7D60-4B75-A35A-3DEFFBB5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78AFAC-5B51-40A6-9F25-7EE9EE0F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43672-4664-4767-901D-4D06AFAB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B89D96-CFA3-42C9-9A70-B08DF870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7B04-F298-4AD2-931E-C88A09C1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E20AF7-5B1D-4F19-8CAA-481933CC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2F99F6-046B-4CE6-AC24-1C1FD7DA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A0AADE-A107-4EDD-BBC6-39E7BC2C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2C56A0-33E1-494F-AD3F-2031DAF6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958F25-41F2-4A1A-AEAE-46987DDE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A0271A-9926-448F-8144-54BCCEB1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546DB-D4BC-4412-A246-47DF06E3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8261DF-DFFF-4559-A90F-AB7DC576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926EB4-1546-4E83-83A7-0CE8D3F3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2BC025-DE01-49A9-B73F-52134288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0E0F-9822-4C46-BC36-FB59FC27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86D9AC-57DD-4F38-9BB6-A9982C51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286135-6940-4207-8500-CA00909A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8620BE-85E3-4996-AAD5-8A345A8C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EEE73B-EE8B-415B-9BCA-048C6017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563A01-FC74-49D4-B0F6-08C64CE3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4EAB34-40ED-4D13-8372-6A75290D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C30C47-4B7D-4E36-8F98-4B85335B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257D85-4D02-4526-B6E0-73EE3525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9E3F7E-E0A8-4D6F-A177-1033DF91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D4563D-1B05-4561-ADDB-68E5590C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32C-950A-4DC3-9B77-D0997854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CD3E-54E1-4018-8417-25630D33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B13A9C-B22C-4E4C-827A-5E387D4A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A1801A-AE21-4A56-A760-21B3F737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E0A002-DAD3-4242-BAB3-EB4F707D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9479E9-F747-41D3-8FF0-F98BBA4C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6EDE22-E7E0-4E56-B344-C8534280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6DA60D-DD9E-482C-B14C-CFED054A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DFDAA3-5296-4F65-B733-5F1A8709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B0650F-1BA2-4C9D-8E84-F3224272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B1108F-DE57-48B7-98C4-9D02DAF4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35987C-B317-4FDF-8489-2543482A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93B0-585F-4F14-B5BB-01247156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6C0597-C7DA-4E9F-B458-B818A9B1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2AFE34-A19E-43AC-AD40-93685E44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F85765-471D-4B6F-A026-B3032C19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64D127-6639-46B9-80B8-D4402B64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6EA020-3FBE-4A27-A6B0-160D6498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B9F528-EDC2-44F3-997F-8131CF63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856050-B33F-4C86-A613-6CD4F90C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6A3DEF-DD0A-4B8B-B3AA-A30A3544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0D99BE-78B4-4EEC-83C4-F0A2803B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079656-A2FA-42B7-B1E0-A74ABE23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88EB-48BA-421A-857B-98F68AB2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56B95C-76A4-46B1-BA25-3F175951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664902-FCE0-4B4B-BCAE-F64B2091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380D97-B13A-468E-9274-B9204C6C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5174BC-6383-4FAF-BF04-12792420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C97498-53E4-41EA-A8FD-47B45DB7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F3ECD4-C74E-43F0-98F3-70482F37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7026E3-1EC1-40A3-951A-E56EED65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C94A9A-2979-4F09-A9E2-1898D040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601D0A-FA2B-44C3-A1DB-9978F55E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54D90E-C531-4F49-B549-AF21EDE9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FE24-0F9B-4D1E-A57E-B1029B61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B85151-6495-40E2-B59C-D5256161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1ECF15-0984-4590-8D73-A408395F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AC4342-CAB4-4095-A913-6043B879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1F520C-6B7F-4E80-BE15-83D8CC0E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887331-9077-4054-BBF8-68CBDEA4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1DAD8D-44F5-480A-8518-4809A1F7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32FA70-4F63-4861-A1B0-7062229F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219CF5-B604-43DC-9BDA-394CBE2E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0E6CED-23AF-4ADD-9175-10E5084C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8BB6C2-CF75-4B6C-980D-E80A81FE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EF64-4649-44D8-B83F-F0F13498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7EDF58-D5BA-45FF-867A-B6114651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97ADD0-3F2A-4399-AE94-B910A5AE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D459CB-C116-4E26-A829-2FD1FF38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70F097-386C-4765-96A9-2A2E81E1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90CBD9-28A0-49E0-973E-D567EC9F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68957C-3CB8-4F01-978E-C330EEAF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CA7907-3F48-49D0-8340-D140BEFB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72E752-33CE-44E1-B89F-196F8D21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D3FB18-D894-4BD7-B75F-B1AD6A6C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A7B3DA-BAEC-4B8B-AD3E-3B497390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E174F-50AF-4C7E-BBF4-F3A9CF08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0D81D8-EFCA-4682-8A88-81F9B576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687562-DAC0-4914-833C-37BF8CF0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D0A575-CB87-4E0F-AAC8-E692268E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ED8A3-E9B8-47C8-A4B2-807189D1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CD058-E2D0-4061-A5C0-24B45E73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3F3F1-509B-4C49-B402-1337A27D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016CA-0458-41E5-B09E-AE166953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EBB-BD03-4164-9984-7FB94321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07E6C-3EAA-4192-9C51-D548BFBD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A7C26-8327-4A1C-97A2-25147EFC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0E55E-EE65-4B9B-9214-1811C018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152E0-AE47-48E1-AA9C-F8977F50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68F92-6A57-4EB2-A119-BBE20AF9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6879-700C-4EB7-8B98-7E12F6D8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7A60B-6437-4347-8974-34CB47D8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EB859-C27C-420A-90B2-648A672E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E6561-77F4-4710-9C67-007494EC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11F2C-96BE-4F6A-8F3C-F3FA1074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48B-8B4B-4DD4-9E68-E8BFB89B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5A92D-2AB3-4E87-ABB9-5644440A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44B60-7DC1-456B-B507-58A1AF7D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E6EE0-4F60-4192-BBD6-E7A0C048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7A594-592C-4097-9F09-7B9C80B3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B910A-EE2E-40C9-8BB8-6BC3C636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18D71-A114-4A9B-84C9-8251E277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EE039-FA49-477A-8967-CE6210DF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8BC13-75D5-4453-8E3E-6C9B61E2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C13EE-B5CA-4C8D-B311-81077777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C71EA-FBAF-4254-BFC9-15D6BD8D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BDF-30BD-4964-AF0B-74B394C4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61F0D-E86C-401B-AA0E-E08DA648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D22F0-1E31-4138-B2CC-8EDFCC21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2902E-E2A6-4302-ACBD-2AA458E8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49C51-8EE0-4E69-83F3-21A90235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72539-60CB-4AE1-8C7B-8DC2D834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7706B-E63F-4597-B09C-B3FA5813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7A714-D1DB-4055-A31E-CB88B21A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EE3F8-4182-410E-917D-0FD27B35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06582-E78B-4524-A72B-EB661016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3F4D2-BF72-4B9D-8B6D-723DD334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1A4-2C8B-4983-B18F-2A6DF438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1D194-024E-47A3-ACFB-CE2A7069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E1FB9-2919-45A7-9A2F-260CB687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E118F-E44E-4551-A19F-0EC3B242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0AC8C-B85D-456E-8E52-B5C125D6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9CACF-0F63-429C-AAAD-0BB09D22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C8BF6-FD99-4590-8FD9-1489E378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39D85-273C-4507-85E0-E74AD6A0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F11BD-A46A-4F3E-A9D7-CB95DAAA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5DED6-EF7D-4102-9182-2B008D62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81937-FDFF-4210-8AE4-DCC27B42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D21-5C9C-480A-851C-83DD715C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95136-533C-49A7-AD9E-7DCC5D65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86E51-F4D0-4DC3-A6C5-76ABB071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2A85B-1B51-4AFF-ADB2-DAE33656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01B15-2E17-4F80-917A-6AD69809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42E55-732A-4721-B810-415395F7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EA715-51A1-4258-888E-1FB73541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B1D66-1AF1-4804-9347-D7A965AE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77CB7-FB45-4F6F-9EDA-BF0DBFA0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A6DEB-E57E-4C34-A012-B9691864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6AD6C-86B5-4376-9577-F5B0FF58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1AE-B227-408F-94ED-B7571C48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FADC3-33E2-4BD3-8F9D-1B64EAC7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24E8A-9C77-49FA-B852-FD7D2742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CDC55-9373-4B06-AF09-B8209DAC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8B73A-A447-4A2C-8F3F-8C8199A5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85550-001B-4049-AC2A-6C77DCAC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6FC26-4B2C-449A-B866-9C2557AC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E6B46-58A2-4553-9E35-838EF9C2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53826-C65E-434C-8C06-0E2D24C5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D8FBA-9DB0-453E-AF37-AB2B50E2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1DB9B-F3D6-4D88-BE8B-813C2200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DA62-A339-40E2-A970-05EF6944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3289F-EE86-4572-81C2-5A1A0E8B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E696C-1829-4176-8CB9-855B821F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2FD28-ABFB-4809-B102-F6F5ECA1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B0315-4FC1-4629-8519-178B7399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9D9E3-C87A-46B1-98AB-3697151B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9BB22-3626-4B1E-9650-724F7C7C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6CF11-B384-4F02-B8F2-99D9B350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1BE48-D233-498D-B402-24EC94D2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25D34-B224-4117-98D8-B06C6E59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76D48-6DBC-4813-B5D1-0E81623E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500B-D7B5-4ED0-9E68-8F49588B3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F699-CD50-4518-A153-48DEC9F1AF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D696-EEFC-421C-AF02-4FB2DAE0CA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1B74-4B13-4C36-B52E-6F1810F223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EC6C-EEC9-4C00-9B49-E9F821DF02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AE94-4799-4504-96D5-83055DF60F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1E1E-E4DB-4EB4-AAD9-311FB42DBE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AADB-6FF2-4CFD-800A-4501D398A3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532E-3A17-4BA2-BB80-8453566343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2884-C8CF-4118-974E-FD63772DAF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CA03-BF75-49C1-91C2-CD5C21600B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825B-29FF-4AA6-AD34-FBCAE1E051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BC0E-F5E0-42E4-9A8D-97223769D9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2253-1AFF-41F8-B4E8-BFAFEEAD4D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F526-1722-4D86-B10F-5CE763CAC0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D7A9-D7D8-45E0-A8C6-1397714895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8E52-223D-4116-8C21-FF018B3EA9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9D96-A226-484E-B308-C8927B2F72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A980-65D2-46BC-83F7-543935DFC9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C876-C7A8-4EA8-89E3-20F620AB99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8FB6-3535-4412-A7E6-8CD3AA7AF4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EF58-5C7E-456A-9E87-810EAD9963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0DD6-4EAD-4232-B274-D96E27F76A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B91D-1921-4A57-85AB-24B6197A3A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6D1F-7B6C-445A-B911-C47F5CAB3B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F1FF-CA4C-429D-AA65-DDE78A3C6F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F2B8-EF2D-4F93-85AB-29327C0C37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3EBA-6B50-49A6-8824-8EED7DDFC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6210-AA19-4AF3-B597-864B12166E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B2C5-C254-463E-9742-67781B43C6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9509-AE3B-41F5-8FE9-01B62A147C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81BA-690F-4DEF-A230-C8EB77A2FE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F6D3-3C73-4130-A727-FE1FFF6179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9824-BA4C-4939-B23D-D596DBEFE0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9611-5B43-482A-84F1-376DEF6D77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00EB-E3A0-49B6-A508-B10A965FF6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5CB0-F350-40A9-89F1-86E51DA06B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DA16-F23F-435B-A13F-1FA69C3E13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C01D-138A-4376-8D8A-EFB3ED957B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F66E-AAEA-44F9-B8E6-D8AEA1696F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352600" y="2886120"/>
            <a:ext cx="44388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80773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172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399960" y="1785960"/>
            <a:ext cx="8344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571680" y="928800"/>
            <a:ext cx="8105760" cy="573408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1071720" y="928800"/>
            <a:ext cx="42840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1071720" y="135720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4"/>
          <p:cNvSpPr/>
          <p:nvPr/>
        </p:nvSpPr>
        <p:spPr>
          <a:xfrm>
            <a:off x="1071720" y="185724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5"/>
          <p:cNvSpPr/>
          <p:nvPr/>
        </p:nvSpPr>
        <p:spPr>
          <a:xfrm>
            <a:off x="1000080" y="235728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6"/>
          <p:cNvSpPr/>
          <p:nvPr/>
        </p:nvSpPr>
        <p:spPr>
          <a:xfrm>
            <a:off x="1071720" y="2857680"/>
            <a:ext cx="42840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7"/>
          <p:cNvSpPr/>
          <p:nvPr/>
        </p:nvSpPr>
        <p:spPr>
          <a:xfrm>
            <a:off x="1071720" y="3714840"/>
            <a:ext cx="42840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8"/>
          <p:cNvSpPr/>
          <p:nvPr/>
        </p:nvSpPr>
        <p:spPr>
          <a:xfrm>
            <a:off x="1071720" y="428616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9"/>
          <p:cNvSpPr/>
          <p:nvPr/>
        </p:nvSpPr>
        <p:spPr>
          <a:xfrm>
            <a:off x="1071720" y="471492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10"/>
          <p:cNvSpPr/>
          <p:nvPr/>
        </p:nvSpPr>
        <p:spPr>
          <a:xfrm>
            <a:off x="1143000" y="521496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11"/>
          <p:cNvSpPr/>
          <p:nvPr/>
        </p:nvSpPr>
        <p:spPr>
          <a:xfrm>
            <a:off x="1143000" y="571500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409680" y="843120"/>
            <a:ext cx="83246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357120" y="1189080"/>
            <a:ext cx="8248680" cy="24955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2" descr=""/>
          <p:cNvPicPr/>
          <p:nvPr/>
        </p:nvPicPr>
        <p:blipFill>
          <a:blip r:embed="rId2"/>
          <a:stretch/>
        </p:blipFill>
        <p:spPr>
          <a:xfrm>
            <a:off x="522360" y="3608280"/>
            <a:ext cx="820080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471600" y="1295280"/>
            <a:ext cx="8200800" cy="4267440"/>
          </a:xfrm>
          <a:prstGeom prst="rect">
            <a:avLst/>
          </a:prstGeom>
          <a:ln w="0">
            <a:noFill/>
          </a:ln>
        </p:spPr>
      </p:pic>
      <p:sp>
        <p:nvSpPr>
          <p:cNvPr id="1040" name="矩形 2"/>
          <p:cNvSpPr/>
          <p:nvPr/>
        </p:nvSpPr>
        <p:spPr>
          <a:xfrm>
            <a:off x="1000080" y="135720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3"/>
          <p:cNvSpPr/>
          <p:nvPr/>
        </p:nvSpPr>
        <p:spPr>
          <a:xfrm>
            <a:off x="857160" y="278604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1" descr=""/>
          <p:cNvPicPr/>
          <p:nvPr/>
        </p:nvPicPr>
        <p:blipFill>
          <a:blip r:embed="rId1"/>
          <a:stretch/>
        </p:blipFill>
        <p:spPr>
          <a:xfrm>
            <a:off x="495360" y="857160"/>
            <a:ext cx="8153280" cy="5143680"/>
          </a:xfrm>
          <a:prstGeom prst="rect">
            <a:avLst/>
          </a:prstGeom>
          <a:ln w="0">
            <a:noFill/>
          </a:ln>
        </p:spPr>
      </p:pic>
      <p:sp>
        <p:nvSpPr>
          <p:cNvPr id="1043" name="矩形 2"/>
          <p:cNvSpPr/>
          <p:nvPr/>
        </p:nvSpPr>
        <p:spPr>
          <a:xfrm>
            <a:off x="857160" y="928800"/>
            <a:ext cx="42876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3"/>
          <p:cNvSpPr/>
          <p:nvPr/>
        </p:nvSpPr>
        <p:spPr>
          <a:xfrm>
            <a:off x="857160" y="235728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4"/>
          <p:cNvSpPr/>
          <p:nvPr/>
        </p:nvSpPr>
        <p:spPr>
          <a:xfrm>
            <a:off x="857160" y="3714840"/>
            <a:ext cx="42876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495360" y="814320"/>
            <a:ext cx="8153280" cy="5229360"/>
          </a:xfrm>
          <a:prstGeom prst="rect">
            <a:avLst/>
          </a:prstGeom>
          <a:ln w="0">
            <a:noFill/>
          </a:ln>
        </p:spPr>
      </p:pic>
      <p:sp>
        <p:nvSpPr>
          <p:cNvPr id="1047" name="矩形 2"/>
          <p:cNvSpPr/>
          <p:nvPr/>
        </p:nvSpPr>
        <p:spPr>
          <a:xfrm>
            <a:off x="5929200" y="22860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3"/>
          <p:cNvSpPr/>
          <p:nvPr/>
        </p:nvSpPr>
        <p:spPr>
          <a:xfrm>
            <a:off x="1214280" y="32148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4"/>
          <p:cNvSpPr/>
          <p:nvPr/>
        </p:nvSpPr>
        <p:spPr>
          <a:xfrm>
            <a:off x="1154160" y="36799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5"/>
          <p:cNvSpPr/>
          <p:nvPr/>
        </p:nvSpPr>
        <p:spPr>
          <a:xfrm>
            <a:off x="3786120" y="4143240"/>
            <a:ext cx="428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6"/>
          <p:cNvSpPr/>
          <p:nvPr/>
        </p:nvSpPr>
        <p:spPr>
          <a:xfrm>
            <a:off x="5857920" y="4643280"/>
            <a:ext cx="428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23:4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